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096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4292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148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4292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sr-Latn-C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CB35D27-5354-4403-95D9-DA41A0F2E7D3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2FFA3FA8-3B46-482A-9D3A-57617D2BE66E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21056D3D-3284-4524-ABBC-49A2672EC59A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D82B3C02-92F3-42A8-A4E6-8DBB8F4DB76C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4597D1A-F92E-4981-A372-BD029810AA93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A3A8F4CB-A961-4A7C-A251-F36E3B17C07A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9ECACC30-1813-4116-A986-641F84AC34E3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17BE7BFA-C097-42A1-A165-9CBC92E1DD52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55C99C0A-6ADA-4733-8F28-969B754281AD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96D53443-B9EF-4D23-AA4A-9FDE47395C42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D99768C-7DC8-4B92-AB0D-40CCDCE1C04A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46201186-40C9-4A86-BCBC-1E21EF3EE279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1C52993C-71A4-4D02-BF32-38995AB337F3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CA065619-1762-4595-81E7-DE3F2642E185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DF89D05B-EA06-4831-AB7F-6C8DBB869136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7C70CE11-4651-4980-9009-CB0E6ED25F59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E8C6C7B1-1092-4D9D-81CF-2569088B37CC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6E9-C5CD-47AC-9862-B38DC0C4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E7B-613A-4536-85CA-E128AEE8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C37-0B89-4A32-8345-65348F4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802-C5F9-4EC0-A00A-46776F5F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730-0E98-471C-867E-27DF16C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38D-B536-4E96-A14D-CE53CF54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4C6-7AF9-4C86-B58E-F7087ABD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7EB-E492-47F1-8576-6ABEEB74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F07-D8AD-4075-B16D-F67F381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D4F-CFAE-4C5A-9AD6-FDA73E6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1BF-3258-4F82-B702-81248F9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0AD-91AA-4018-8C63-D748D99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F91F-3C57-4E25-9CA4-E4C7C8091CFE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328608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Основе писања и тумачења реце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Провера индикованости, дозног режим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и интеракција лека који се изда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47640"/>
            <a:ext cx="864216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Сигнатура се пише на латинском језику уколико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Лекар прописује лек за парентералну примену (ињекције, инфузије):                                                                         </a:t>
            </a:r>
            <a:r>
              <a:rPr b="1" i="1" lang="sr-Latn-CS" sz="2700" spc="-1" strike="noStrike">
                <a:solidFill>
                  <a:srgbClr val="000000"/>
                </a:solidFill>
                <a:latin typeface="Candara"/>
              </a:rPr>
              <a:t>S.  Ad manum medici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!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 руке лекару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5000"/>
              </a:lnSpc>
              <a:spcBef>
                <a:spcPts val="74"/>
              </a:spcBef>
              <a:buNone/>
              <a:tabLst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Лекар прописује лековити препарат за сопствену уpотрeбу, иза 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Signa suo nomine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исати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Pro me!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За менe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Ad rationem meam!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За мој рaчун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Ad usum proprium</a:t>
            </a:r>
            <a:r>
              <a:rPr b="1" i="1" lang="sr-Latn-CS" sz="2700" spc="-1" strike="noStrike">
                <a:solidFill>
                  <a:srgbClr val="000000"/>
                </a:solidFill>
                <a:latin typeface="Candara"/>
              </a:rPr>
              <a:t>!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–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За сопствену упoтрeбу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ndara"/>
              </a:rPr>
              <a:t>NOMEN MED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Потпис лекара, печат са именом лекара и </a:t>
            </a:r>
            <a:r>
              <a:rPr b="0" lang="sr-Latn-C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печат установе у којој је рецепт изда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3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r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r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700" spc="-1" strike="noStrike">
                <a:solidFill>
                  <a:srgbClr val="000000"/>
                </a:solidFill>
                <a:latin typeface="Candara"/>
              </a:rPr>
              <a:t>Напомена: Грешке приликом писања рецеп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r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700" spc="-1" strike="noStrike">
                <a:solidFill>
                  <a:srgbClr val="000000"/>
                </a:solidFill>
                <a:latin typeface="Candara"/>
              </a:rPr>
              <a:t>могу се исправити уз факсимил и потпис лека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842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Додатне речи или синтагме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латинском јез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Candara"/>
              </a:rPr>
              <a:t>Cito!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– Брз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Candara"/>
              </a:rPr>
              <a:t>Statium!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– Хитно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Candara"/>
              </a:rPr>
              <a:t>Periculum in mora!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– Опасност је у одлагањ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Candara"/>
              </a:rPr>
              <a:t>Фармацеут треба лек, прописан на таквом рецепту, да изда одм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ndara"/>
              </a:rPr>
              <a:t>ПРОПИСИВАЊЕ ГОТОВИХ ЛЕКО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-425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Готови лекови су лековити препарати које призводе фармацеутске компан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Када се прописују, у ординацији се пише њихово заштићено им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увек у </a:t>
            </a:r>
            <a:r>
              <a:rPr b="0" lang="sr-CS" sz="2600" spc="-1" strike="noStrike">
                <a:solidFill>
                  <a:srgbClr val="ff0000"/>
                </a:solidFill>
                <a:latin typeface="Candara"/>
              </a:rPr>
              <a:t>номинатив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једн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Облик лека пише се такође у номинатив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једнина 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л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множин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Готови лекови се 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з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дају у оригиналним паковањ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упскрипција увек почиње речју </a:t>
            </a:r>
            <a:r>
              <a:rPr b="0" lang="sr-Latn-CS" sz="2600" spc="-1" strike="noStrike">
                <a:solidFill>
                  <a:srgbClr val="ff0000"/>
                </a:solidFill>
                <a:latin typeface="Candara"/>
              </a:rPr>
              <a:t>Da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 императиву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здај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супскрипцији треба писати колико оригиналних паковања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фармацеут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треба д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зда болес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 u="sng">
                <a:solidFill>
                  <a:srgbClr val="000000"/>
                </a:solidFill>
                <a:uFillTx/>
                <a:latin typeface="Candara"/>
              </a:rPr>
              <a:t>Пример: 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Candara"/>
              </a:rPr>
              <a:t>лек пакован у оригиналној кутиј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6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Da scatulam originalem N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andara"/>
              </a:rPr>
              <a:t>0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I (unam)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– (</a:t>
            </a:r>
            <a:r>
              <a:rPr b="0" i="1" lang="sr-CS" sz="2600" spc="-1" strike="noStrike">
                <a:solidFill>
                  <a:srgbClr val="000000"/>
                </a:solidFill>
                <a:latin typeface="Candara"/>
              </a:rPr>
              <a:t>Издај једну оригиналну кутију)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446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Da scatulas originales N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andara"/>
              </a:rPr>
              <a:t>0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II (duas)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– (</a:t>
            </a:r>
            <a:r>
              <a:rPr b="0" i="1" lang="hr-HR" sz="2600" spc="-1" strike="noStrike">
                <a:solidFill>
                  <a:srgbClr val="000000"/>
                </a:solidFill>
                <a:latin typeface="Candara"/>
              </a:rPr>
              <a:t>Издај две оригиналне кут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Именица scatulа и придев originalis се увек пишу у </a:t>
            </a:r>
            <a:r>
              <a:rPr b="0" lang="hr-HR" sz="2600" spc="-1" strike="noStrike">
                <a:solidFill>
                  <a:srgbClr val="ff0000"/>
                </a:solidFill>
                <a:latin typeface="Candara"/>
              </a:rPr>
              <a:t>акузативу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једни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/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множи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)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N° је скраћеница од латинског глагола Numero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1" i="1" lang="hr-HR" sz="2600" spc="-1" strike="noStrike">
                <a:solidFill>
                  <a:srgbClr val="000000"/>
                </a:solidFill>
                <a:latin typeface="Candara"/>
              </a:rPr>
              <a:t>бројати</a:t>
            </a:r>
            <a:r>
              <a:rPr b="1" i="1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Број кутија који се прописује болеснику пише се </a:t>
            </a:r>
            <a:r>
              <a:rPr b="0" i="1" lang="hr-HR" sz="2600" spc="-1" strike="noStrike" u="sng">
                <a:solidFill>
                  <a:srgbClr val="000000"/>
                </a:solidFill>
                <a:uFillTx/>
                <a:latin typeface="Candara"/>
              </a:rPr>
              <a:t>римским 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бројевим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; 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увек у загради мор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hr-HR" sz="2600" spc="-1" strike="noStrike">
                <a:solidFill>
                  <a:srgbClr val="000000"/>
                </a:solidFill>
                <a:latin typeface="Candara"/>
              </a:rPr>
              <a:t>и словима написати име броја (како би се спречило дописивање</a:t>
            </a:r>
            <a:r>
              <a:rPr b="0" lang="hr-HR" sz="25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84360" y="333360"/>
            <a:ext cx="787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ndara"/>
              </a:rPr>
              <a:t>ПРОПИСИВАЊЕ ГОТОВИХ ЛЕКО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24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РОПИСИВАЊЕ ГОТОВИХ ЛЕКОВА</a:t>
            </a:r>
            <a:br>
              <a:rPr sz="3000"/>
            </a:b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496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Rp.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Xxxxx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*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tabl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0,5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Da scatulam originalem N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  <a:ea typeface="Arial"/>
              </a:rPr>
              <a:t>°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 I (unam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S. </a:t>
            </a:r>
            <a:r>
              <a:rPr b="0" lang="hr-HR" sz="2900" spc="-1" strike="noStrike">
                <a:solidFill>
                  <a:srgbClr val="000000"/>
                </a:solidFill>
                <a:latin typeface="Candara"/>
              </a:rPr>
              <a:t>Č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etiri puta dnevno razmutiti jedn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tabletu u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č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aši vode i popiti 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74"/>
              </a:spcBef>
              <a:buNone/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500" spc="-1" strike="noStrike">
                <a:solidFill>
                  <a:srgbClr val="000000"/>
                </a:solidFill>
                <a:latin typeface="Candara"/>
              </a:rPr>
              <a:t>Заштићено име ле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476000" y="1844640"/>
            <a:ext cx="431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ОПИСИВАЊЕ ОФИЦИНАЛНИХ  ЛЕКО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727280"/>
            <a:ext cx="8352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Официнални лекови су лековити препарати обухваћени фармакопе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Њихов састав и начин израде детаљ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но су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наведени у фармакопеји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довољно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је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написати назив лековитог препарата у ординацији рецепта, његов облик (ако већ није садржан у називу препарата) и кол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супскрипцији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треба 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написати у чему да се изда поменута количина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0728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Назив лековитог препарата у ординацији увек се пише у </a:t>
            </a:r>
            <a:r>
              <a:rPr b="0" lang="hr-HR" sz="2800" spc="-1" strike="noStrike">
                <a:solidFill>
                  <a:srgbClr val="ff0000"/>
                </a:solidFill>
                <a:latin typeface="Candara"/>
              </a:rPr>
              <a:t>генитиву 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једнине, док се његов облик може писати у </a:t>
            </a:r>
            <a:r>
              <a:rPr b="0" lang="hr-HR" sz="2800" spc="-1" strike="noStrike">
                <a:solidFill>
                  <a:srgbClr val="ff0000"/>
                </a:solidFill>
                <a:latin typeface="Candara"/>
              </a:rPr>
              <a:t>генитиву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једнине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множ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У супскрипцији се облик паковања у коме треба издати лек увек пише у </a:t>
            </a:r>
            <a:r>
              <a:rPr b="0" lang="hr-HR" sz="2800" spc="-1" strike="noStrike">
                <a:solidFill>
                  <a:srgbClr val="ff0000"/>
                </a:solidFill>
                <a:latin typeface="Candara"/>
              </a:rPr>
              <a:t>акузат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ОПИСИВАЊЕ ОФИЦИНАЛНИХ  ЛЕКО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2803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Rp.    Acidi borici unguenti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50,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Da ad scatulam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S. Spolja, namazati obolelo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mesto n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ko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ž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i tri puta dnevno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 flipH="1">
            <a:off x="1476000" y="1773360"/>
            <a:ext cx="431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2602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РОПИСИВАЊЕ ОФИЦИНАЛНИХ  ЛЕКОВА</a:t>
            </a:r>
            <a:br>
              <a:rPr sz="3000"/>
            </a:b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ОПИСИВАЊЕ МАГИСТРАЛНИХ ЛЕКО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Магистрални лекови су лековити препарати које фармацеут израђује према рецепту лек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орају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бити написани следећи елементи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435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астојци препарата и колич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435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ачин справљања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-435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чему издати лековити пре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2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У ординацији рецепта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супстанце које сачињавају лековити препарат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треба навести једну испод д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45960"/>
            <a:ext cx="835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ndara"/>
              </a:rPr>
              <a:t>РЕЦЕП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Писано упутство лекара/стоматолога са положеним државним испитом за справљање и издавање лека</a:t>
            </a:r>
            <a:r>
              <a:rPr b="0" lang="sr-Latn-CS" sz="31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 намењено</a:t>
            </a:r>
            <a:r>
              <a:rPr b="0" lang="sr-Latn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фармацеут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Порекло речи</a:t>
            </a:r>
            <a:r>
              <a:rPr b="0" i="1" lang="sr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i="1" lang="sr-Latn-CS" sz="3100" spc="-1" strike="noStrike">
                <a:solidFill>
                  <a:srgbClr val="000000"/>
                </a:solidFill>
                <a:latin typeface="Candara"/>
              </a:rPr>
              <a:t>praeceptum</a:t>
            </a:r>
            <a:r>
              <a:rPr b="0" lang="sr-Latn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– пропис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ndara"/>
              </a:rPr>
              <a:t>Пише се прецизно и читко, плавим или црним мастил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мена свих ових супстанци пи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у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у </a:t>
            </a:r>
            <a:r>
              <a:rPr b="0" lang="sr-Latn-CS" sz="2800" spc="-1" strike="noStrike">
                <a:solidFill>
                  <a:srgbClr val="ff0000"/>
                </a:solidFill>
                <a:latin typeface="Candara"/>
              </a:rPr>
              <a:t>генитиву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, а иза њих следе њихове количине изражене арапским броје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У супскрипцији написати како се лековити препарат справља од поменутих састој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бично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е на почетку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налази 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израз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Misce fiat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hr-HR" sz="2800" spc="-1" strike="noStrike">
                <a:solidFill>
                  <a:srgbClr val="000000"/>
                </a:solidFill>
                <a:latin typeface="Candara"/>
              </a:rPr>
              <a:t>, што значи: </a:t>
            </a:r>
            <a:r>
              <a:rPr b="0" i="1" lang="hr-HR" sz="2800" spc="-1" strike="noStrike">
                <a:solidFill>
                  <a:srgbClr val="000000"/>
                </a:solidFill>
                <a:latin typeface="Candara"/>
              </a:rPr>
              <a:t>Помешај да б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У следећем делу супскрипције, пише се у чему фармацеут треба да изда лековити пре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игнатура: уобичај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ОПИСИВАЊЕ МАГИСТРАЛНИХ ЛЕКО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26560" y="1794960"/>
            <a:ext cx="760572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Rp.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Acidi salicylici            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1,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Vaselini albi         ad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50,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Misce fiat unguentu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Da ad scatula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S. Spolja, namazati obolelo mesto na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ko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ži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  <a:ea typeface="Arial"/>
              </a:rPr>
              <a:t> dva puta dnevno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H="1">
            <a:off x="1331640" y="1701720"/>
            <a:ext cx="431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РОПИСИВАЊЕ МАГИСТРАЛНИХ ЛЕКОВА</a:t>
            </a:r>
            <a:br>
              <a:rPr sz="3000"/>
            </a:b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542520"/>
            <a:ext cx="8204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СКРАЋЕНИЦ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6560" y="1779120"/>
            <a:ext cx="82821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Candara"/>
              </a:rPr>
              <a:t>Многе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скраћенице </a:t>
            </a:r>
            <a:r>
              <a:rPr b="0" lang="es-ES_tradnl" sz="2900" spc="-1" strike="noStrike">
                <a:solidFill>
                  <a:srgbClr val="000000"/>
                </a:solidFill>
                <a:latin typeface="Candara"/>
              </a:rPr>
              <a:t>које су у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s-ES_tradnl" sz="2900" spc="-1" strike="noStrike">
                <a:solidFill>
                  <a:srgbClr val="000000"/>
                </a:solidFill>
                <a:latin typeface="Candara"/>
              </a:rPr>
              <a:t>потреби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s-ES_tradnl" sz="2900" spc="-1" strike="noStrike">
                <a:solidFill>
                  <a:srgbClr val="000000"/>
                </a:solidFill>
                <a:latin typeface="Candara"/>
              </a:rPr>
              <a:t> потичу из латинског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језика</a:t>
            </a:r>
            <a:r>
              <a:rPr b="0" lang="es-ES_tradnl" sz="2900" spc="-1" strike="noStrike">
                <a:solidFill>
                  <a:srgbClr val="000000"/>
                </a:solidFill>
                <a:latin typeface="Candara"/>
              </a:rPr>
              <a:t> и опште су прихваћен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Најчешће се односе н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4399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Време примен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4399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Начин примен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4399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Облик лек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4399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Количину л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краћенице које се односе на </a:t>
            </a:r>
            <a:br>
              <a:rPr sz="3300"/>
            </a:b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време примен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a.c.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ante cibum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ре јел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c.c.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      con cibum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а јело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p.c. 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      post cibum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осле јел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noct.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noctu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но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bid. 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      bis in diem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два пута днев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tid. 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      tres in diem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=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три пута у току да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25748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краћенице које се односе на </a:t>
            </a:r>
            <a:br>
              <a:rPr sz="3300"/>
            </a:b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начин примен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6360" y="1762200"/>
            <a:ext cx="80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s.c.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субкутано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i.m.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интрамускуларн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i.v.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интравенс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p.o.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per os =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оралн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s.l.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сублингвалн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rect.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ректалн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краћенице које се односе на облик ле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4680" y="1418760"/>
            <a:ext cx="77724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amp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ampulla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мпул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caps.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apsula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      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капсул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gtt.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guttae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ап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inj.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injectio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њек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pulv.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pulvis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ашa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ol.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olutio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аст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upp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=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uppositorium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епи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usp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uspensio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усп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yr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syrupus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иру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tabl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=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tabletta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абл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ung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unguentum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краћенице које се односе на </a:t>
            </a:r>
            <a:br>
              <a:rPr sz="3300"/>
            </a:b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количину  ле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g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гр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mcg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икрогр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Eq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илиеквивален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ml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илилита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mOsm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=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илиосмо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8748720" y="580392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Адекватна п</a:t>
            </a:r>
            <a:r>
              <a:rPr b="0" lang="es-ES_tradnl" sz="3000" spc="-1" strike="noStrike">
                <a:solidFill>
                  <a:srgbClr val="000000"/>
                </a:solidFill>
                <a:latin typeface="Candara"/>
              </a:rPr>
              <a:t>римен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s-ES_tradnl" sz="3000" spc="-1" strike="noStrike">
                <a:solidFill>
                  <a:srgbClr val="000000"/>
                </a:solidFill>
                <a:latin typeface="Candara"/>
              </a:rPr>
              <a:t> стандарда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Добре фармацутске праксе</a:t>
            </a:r>
            <a:r>
              <a:rPr b="0" lang="es-ES_tradnl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обезбеђује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 да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6160" indent="-41616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ваки пацијент прими праву дозу лека, на прави начин и у прописаном временском интервал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Ф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армацеутска услуг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је 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документована за сваког пацијента посеб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вим здравственим радницим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су 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на располагању процењене и независне информације о лекови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Ф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армацеутску услугу пружају квалификована ли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s-ES_tradnl" sz="2700" spc="-1" strike="noStrike">
                <a:solidFill>
                  <a:srgbClr val="000000"/>
                </a:solidFill>
                <a:latin typeface="Candara"/>
              </a:rPr>
              <a:t>рописани лекови буду употребљени на безбедан начин и у складу са оптималним захтеви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16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363240"/>
            <a:ext cx="8353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Спровођење правилне и потпуне 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здравствене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заштите захте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длично знање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фармацеута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 терапији боле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тпуно познавање лекова и њихових својста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адгледање и конт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лу леко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знавање узрока и исход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уз разумевањ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ток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боле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бро развијену вештину комуникације с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пацијенто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Грешке у и</a:t>
            </a:r>
            <a:r>
              <a:rPr b="1" lang="sl-SI" sz="3300" spc="-1" strike="noStrike">
                <a:solidFill>
                  <a:srgbClr val="000000"/>
                </a:solidFill>
                <a:latin typeface="Candara"/>
              </a:rPr>
              <a:t>здавању и примени</a:t>
            </a: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 лекова који се издају на рецеп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7589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GB" sz="3000" spc="-1" strike="noStrike">
                <a:solidFill>
                  <a:srgbClr val="000000"/>
                </a:solidFill>
                <a:latin typeface="Candara"/>
              </a:rPr>
              <a:t>игурна и одговарајућа примена лекова значајан 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је </a:t>
            </a:r>
            <a:r>
              <a:rPr b="0" lang="en-GB" sz="3000" spc="-1" strike="noStrike">
                <a:solidFill>
                  <a:srgbClr val="000000"/>
                </a:solidFill>
                <a:latin typeface="Candara"/>
              </a:rPr>
              <a:t>аспект оптимизације резултата здравствене заштите у чијем пружању ј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ndara"/>
              </a:rPr>
              <a:t>увек могућа</a:t>
            </a:r>
            <a:r>
              <a:rPr b="0" lang="en-GB" sz="3000" spc="-1" strike="noStrike">
                <a:solidFill>
                  <a:srgbClr val="000000"/>
                </a:solidFill>
                <a:latin typeface="Candara"/>
              </a:rPr>
              <a:t> људска гре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1647360"/>
            <a:ext cx="8351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Један рецепт – један л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Изузетно, на једном рецепту могу се писати и лек и његова подлога и тада се одвајају знаком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Ако се при писању прелази на други страну рецепта, на дну треба да пише Vertе!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Окрени!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Уколико се на једном рецепту прописује више од једне кутије лека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неопходно је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то истаћ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апоменом „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</a:rPr>
              <a:t>Necesse est!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“(Неопходно је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Потребно је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95280" y="345960"/>
            <a:ext cx="835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ndara"/>
              </a:rPr>
              <a:t>РЕЦЕП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Препорук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Приликом к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онтрол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 рецепта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ndara"/>
              </a:rPr>
              <a:t>контроли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ndara"/>
              </a:rPr>
              <a:t>сати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азив ле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фр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ле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Ф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армацеутски облик л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оличи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лека, начин употребе ле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фр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дијагн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отпис лекара са идентификационим број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атум издавања рецеп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2000" indent="-433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de-DE" sz="2600" spc="-1" strike="noStrike">
                <a:solidFill>
                  <a:srgbClr val="000000"/>
                </a:solidFill>
                <a:latin typeface="Candara"/>
              </a:rPr>
              <a:t>ме и презиме корисника лека и матичн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бро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ndara"/>
              </a:rPr>
              <a:t>Обавезе фармацеут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82486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4360" indent="-414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а фармаколошког аспекта, проверити прописану дозу, облик и количину ле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тврдити/проверити корелацију шифре дијагнозе и индикованог ле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именом метода адекватне вештине комуникације, сазнати о информисаности пацијента о самом леку, дозирању, начину примене и слично (уколико је потребно, допринети на пољу упознавања пацијента са карактеристичним фармаколошким особинам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азмотрити усаглашеност дозног режима и основне болести, али и коморбидитета (стање функције бубрега, јетре и слично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1528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колико се издаје већи број лекова, применом најсавременијих информација о лековима, размотрити могућност (и степен) интермедикаментозних интер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Размотрити (уколико постоје) ранија искуства пацијента са леком који је пропи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роверити адекватност “техничке попуњености” реце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вој практичан рад заштитити од могућности да постане лака мета особама које желе да се нелегално домогну леков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ndara"/>
              </a:rPr>
              <a:t>Обавезе фармацеут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459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ndara"/>
              </a:rPr>
              <a:t>ДЕЛОВИ РЕЦЕ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794960"/>
            <a:ext cx="82090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Inscriptio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 - натп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Invocatiо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 - приз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Ordinatio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 - налог издат од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Subscriptio</a:t>
            </a:r>
            <a:r>
              <a:rPr b="0" lang="sr-Latn-C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- забелешка, примед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Signatura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 - оз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Nomen medici</a:t>
            </a:r>
            <a:r>
              <a:rPr b="0" lang="sr-Latn-C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- потпис лекара, печат са именом лекара и печат уста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1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ndara"/>
              </a:rPr>
              <a:t>INSCRIP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657080"/>
            <a:ext cx="8351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Подаци о болеснику и лека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ме и презиме бол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тарост бол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дреса бол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Здравствена организација у којој се лек пропису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атични и регистарски број бол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рој здравствене књиж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Шифра дијагн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Шифра лека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46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рој амбулантног протоко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724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ndara"/>
              </a:rPr>
              <a:t>INVOC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871280"/>
            <a:ext cx="7777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1618920" y="1773360"/>
            <a:ext cx="431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203640" y="19130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Candara"/>
              </a:rPr>
              <a:t>Recipe!</a:t>
            </a:r>
            <a:r>
              <a:rPr b="0" lang="sr-Latn-CS" sz="32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Candara"/>
              </a:rPr>
              <a:t>уз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4000" y="3429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Лекар налаже фармацеуту да узме готов лек или састојке лековитог препарата, да од њих направи лековити препарат, а потом, изда га пацијен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32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ndara"/>
              </a:rPr>
              <a:t>ORDIN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657080"/>
            <a:ext cx="820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9480" indent="-42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Име лековитог препарата, облик лековитог препарата и количина активне супстанц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Великим почетним словом – именице у имену л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Малим почетним словом – придеви у имену лека и облик лековитог препара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Количина лековитог препарата у облику лека  – у </a:t>
            </a:r>
            <a:r>
              <a:rPr b="0" lang="sr-CS" sz="2900" spc="-1" strike="noStrike" u="sng">
                <a:solidFill>
                  <a:srgbClr val="000000"/>
                </a:solidFill>
                <a:uFillTx/>
                <a:latin typeface="Candara"/>
              </a:rPr>
              <a:t>грамима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, арапским бројевима (не уноси се ознака за граме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                           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Пример: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10 mg – 0,0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ndara"/>
              </a:rPr>
              <a:t>SUBSCRIP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701360"/>
            <a:ext cx="8389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36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Кратко упутство фармацеуту о справљању и/или издавању лек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512720" indent="-53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0000"/>
                </a:solidFill>
                <a:latin typeface="Candara"/>
              </a:rPr>
              <a:t>Колико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лековитог препарата наведеног у ординацији фармацеут треба да изда болесник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512720" indent="-53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0000"/>
                </a:solidFill>
                <a:latin typeface="Candara"/>
              </a:rPr>
              <a:t>У чему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га изда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512720" indent="-53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700" spc="-1" strike="noStrike">
                <a:solidFill>
                  <a:srgbClr val="000000"/>
                </a:solidFill>
                <a:latin typeface="Candara"/>
              </a:rPr>
              <a:t>Какав облик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лековитог препарата треба да се направи од састојака наведених у ординацији (магистрални препарати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5960" y="3459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ndara"/>
              </a:rPr>
              <a:t>SIGN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4440"/>
            <a:ext cx="82072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ndara"/>
              </a:rPr>
              <a:t>Signa!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Означи!  (скраћено 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Пише се на матерњем језику, фармацeут га преписује (упутство болеснику о употреби л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ndara"/>
              </a:rPr>
              <a:t>Signa suo nomine!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Означи лек њeговим имен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ndara"/>
              </a:rPr>
              <a:t>Signa cum formula!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Означи лек њeговим сaстaвo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1:57:16Z</dcterms:created>
  <dc:creator>Marko</dc:creator>
  <dc:description/>
  <dc:language>en-US</dc:language>
  <cp:lastModifiedBy>User13</cp:lastModifiedBy>
  <dcterms:modified xsi:type="dcterms:W3CDTF">2021-01-29T08:31:45Z</dcterms:modified>
  <cp:revision>449</cp:revision>
  <dc:subject>Klinicki farmakolog</dc:subject>
  <dc:title>Verzija za sajt fakulteta</dc:title>
</cp:coreProperties>
</file>